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8C3-BA52-4FEB-A398-537F56CD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E81-1C52-4636-ACEA-80D1DAA4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2FF-F610-4084-BBC1-02B48DD3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7A0-ABC5-4314-B2E7-83526656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E753-E704-439B-8ED8-8B1F24CC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5CB2-9802-436B-A2C7-7E56EF01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0708-F89C-4EAF-BDC9-E9263B96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C15E-067D-4FB8-B7F6-44A4B1FD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4E49-D975-4F71-BAED-3AA59562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26E4-3F27-496E-A663-337E61CC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33C5-38EB-4C45-A67D-EEA4C808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EF7-C96E-40A9-8A88-BD73F895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320B-68F7-42DD-A2F2-07557D97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D696-BC67-416A-804F-736DEE75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AC19-C14D-4B6B-A30D-14B46624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2DED-A7D2-4C2E-8B4D-9B500886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E576-0AF5-4AE4-99AC-28742DD4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F4C-CAA5-4504-9139-F732EFAC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435-1078-4460-B59A-2EEC8B60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656-80F5-4C78-A5FE-D0428286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60A-351E-462E-938D-759C0BA3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229-07DE-428F-B49E-6586B5E6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114-D178-4973-B752-F3BFC5F7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FEF-388A-44ED-A0EC-A114C33A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391F-3117-4177-A4FE-46626A8B43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E488-D65D-4E10-8CBA-4D3960B5D5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Haunted Scarecrow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by Gle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de a scarecrow for the front yard every year , but this year the scarecrow…is haunted! One day I went in the garage. I turned on the light and I saw a scarecrow. It was alive! I had to do something. I got a stick. I whacked the scarecrow’s head off. The next day it was gone.           THE END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08:01Z</dcterms:created>
  <dc:creator>dornell frazier</dc:creator>
  <dc:description/>
  <dc:language>en-US</dc:language>
  <cp:lastModifiedBy>dornell frazier</cp:lastModifiedBy>
  <dcterms:modified xsi:type="dcterms:W3CDTF">2010-11-04T16:19:37Z</dcterms:modified>
  <cp:revision>5</cp:revision>
  <dc:subject/>
  <dc:title>Slide 1</dc:title>
</cp:coreProperties>
</file>